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E742AD-FDA7-42F0-8CB4-39E4803A4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9B2-31C0-4E82-8661-BD2439C0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9A8-626D-453B-8E6B-0DB0ECD2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501-07C6-4FF2-9464-AF63BFF4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C3C-4C9A-4FF7-AA6A-9EE091F3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18B-CCDB-45B8-83A2-D63D09B3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DC5-D660-4984-8E14-2EA21F50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B3A-6AFE-4AA3-ABC1-A0AF662B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BBC-16E9-4029-ADA3-0E9C13BC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3F7-2C30-40CC-90B1-200416FF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8E9-C706-4541-8732-CCC27249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899-8AA0-4B51-A965-A250A12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E04-98F6-4D37-A60F-BE229E2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7409-8FD2-4465-8C28-55670742A2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electrons,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re in an ato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PTE"/>
          <p:cNvPicPr/>
          <p:nvPr/>
        </p:nvPicPr>
        <p:blipFill>
          <a:blip r:embed="rId1"/>
          <a:stretch/>
        </p:blipFill>
        <p:spPr>
          <a:xfrm>
            <a:off x="990720" y="19810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Zirconium (Zr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91-40 = 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periodic table to find an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2590920" y="3200400"/>
            <a:ext cx="472428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(+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tomic number = #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r has 3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ypton's data from the Table of Elements"/>
          <p:cNvPicPr/>
          <p:nvPr/>
        </p:nvPicPr>
        <p:blipFill>
          <a:blip r:embed="rId1"/>
          <a:stretch/>
        </p:blipFill>
        <p:spPr>
          <a:xfrm>
            <a:off x="1905120" y="3962520"/>
            <a:ext cx="527688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Electrons (-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atoms have no overal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must have 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qual # of protons and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#protons=#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Kr has 36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648320" y="365760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(no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tomic weight rounded to nearest whole #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Mass #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8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419720" y="3733920"/>
            <a:ext cx="451476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rotons (p+), electrons (e-), neutrons (n)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Xenon (X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Zirconium (Z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xygen (O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6-8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enon (Xe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31-54 = 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30:38Z</dcterms:created>
  <dc:creator>Myriah Welch</dc:creator>
  <dc:description/>
  <dc:language>en-US</dc:language>
  <cp:lastModifiedBy>LEGION</cp:lastModifiedBy>
  <dcterms:modified xsi:type="dcterms:W3CDTF">2017-01-26T09:31:48Z</dcterms:modified>
  <cp:revision>4</cp:revision>
  <dc:subject/>
  <dc:title>How many protons, electrons, and neutrons are in an atom?</dc:title>
</cp:coreProperties>
</file>